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BBAE-3833-4F5B-803D-CBA70FB3F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584D-9A47-4C18-873B-24A4DCF42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87B6-64B7-4C6D-8E23-889740FAF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CBFF-C109-4AF1-A854-EAB130AC0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FD74-BA37-4DE8-9E1A-4E6227AE3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829B-27B5-40E5-B4EF-D9D046323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783A-4918-4FDB-A414-288C381B3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40DB-BA5E-42F3-AAF5-1AF68C71D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0113-C22D-4A07-8B33-1A4AC5F00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F257-4374-434B-AD8B-6ACC502F4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5B25-D1D7-4FAF-8887-8EA61C852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34AB-FC23-4C90-BE87-E5853C858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2F11B-D036-44EB-85FC-43AFE92CAB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7" descr="winterbkground"/>
          <p:cNvPicPr/>
          <p:nvPr/>
        </p:nvPicPr>
        <p:blipFill>
          <a:blip r:embed="rId2"/>
          <a:stretch/>
        </p:blipFill>
        <p:spPr>
          <a:xfrm>
            <a:off x="0" y="0"/>
            <a:ext cx="9144000" cy="2438280"/>
          </a:xfrm>
          <a:prstGeom prst="rect">
            <a:avLst/>
          </a:prstGeom>
          <a:ln w="0">
            <a:noFill/>
          </a:ln>
        </p:spPr>
      </p:pic>
      <p:sp>
        <p:nvSpPr>
          <p:cNvPr id="4" name="Text Box 8"/>
          <p:cNvSpPr/>
          <p:nvPr/>
        </p:nvSpPr>
        <p:spPr>
          <a:xfrm>
            <a:off x="0" y="1447920"/>
            <a:ext cx="9144000" cy="4572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9" descr="winterbkground"/>
          <p:cNvPicPr/>
          <p:nvPr/>
        </p:nvPicPr>
        <p:blipFill>
          <a:blip r:embed="rId3"/>
          <a:stretch/>
        </p:blipFill>
        <p:spPr>
          <a:xfrm>
            <a:off x="0" y="5638680"/>
            <a:ext cx="9144000" cy="243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alltheweb.com/" TargetMode="External"/><Relationship Id="rId2" Type="http://schemas.openxmlformats.org/officeDocument/2006/relationships/hyperlink" Target="http://www.altavista.com/" TargetMode="External"/><Relationship Id="rId3" Type="http://schemas.openxmlformats.org/officeDocument/2006/relationships/hyperlink" Target="http://www.askjeeves.com/" TargetMode="External"/><Relationship Id="rId4" Type="http://schemas.openxmlformats.org/officeDocument/2006/relationships/hyperlink" Target="http://www.ajkids.com/" TargetMode="External"/><Relationship Id="rId5" Type="http://schemas.openxmlformats.org/officeDocument/2006/relationships/hyperlink" Target="http://www.ajkids.com/" TargetMode="External"/><Relationship Id="rId6" Type="http://schemas.openxmlformats.org/officeDocument/2006/relationships/hyperlink" Target="http://www.go.com/dynamic/Portal" TargetMode="External"/><Relationship Id="rId7" Type="http://schemas.openxmlformats.org/officeDocument/2006/relationships/hyperlink" Target="http://www.goto.com/" TargetMode="External"/><Relationship Id="rId8" Type="http://schemas.openxmlformats.org/officeDocument/2006/relationships/hyperlink" Target="http://www.excite.com/" TargetMode="External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ericir.syr.edu/" TargetMode="External"/><Relationship Id="rId2" Type="http://schemas.openxmlformats.org/officeDocument/2006/relationships/hyperlink" Target="http://www.switchboard.com/" TargetMode="External"/><Relationship Id="rId3" Type="http://schemas.openxmlformats.org/officeDocument/2006/relationships/hyperlink" Target="http://shareware.cnet.com/" TargetMode="External"/><Relationship Id="rId4" Type="http://schemas.openxmlformats.org/officeDocument/2006/relationships/hyperlink" Target="http://www.eduhound.com/" TargetMode="External"/><Relationship Id="rId5" Type="http://schemas.openxmlformats.org/officeDocument/2006/relationships/hyperlink" Target="http://www.yahooligans.com/" TargetMode="External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about.com/" TargetMode="External"/><Relationship Id="rId2" Type="http://schemas.openxmlformats.org/officeDocument/2006/relationships/hyperlink" Target="http://www.lycos.com/default.asp" TargetMode="External"/><Relationship Id="rId3" Type="http://schemas.openxmlformats.org/officeDocument/2006/relationships/hyperlink" Target="http://dmoz.org/" TargetMode="External"/><Relationship Id="rId4" Type="http://schemas.openxmlformats.org/officeDocument/2006/relationships/hyperlink" Target="http://www.vlib.org/" TargetMode="External"/><Relationship Id="rId5" Type="http://schemas.openxmlformats.org/officeDocument/2006/relationships/hyperlink" Target="http://www.clearinghouse.net/" TargetMode="External"/><Relationship Id="rId6" Type="http://schemas.openxmlformats.org/officeDocument/2006/relationships/hyperlink" Target="http://magellan.excite.com/" TargetMode="External"/><Relationship Id="rId7" Type="http://schemas.openxmlformats.org/officeDocument/2006/relationships/hyperlink" Target="http://www.yahoo.com/" TargetMode="External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winterb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3"/>
          <p:cNvSpPr/>
          <p:nvPr/>
        </p:nvSpPr>
        <p:spPr>
          <a:xfrm>
            <a:off x="0" y="915840"/>
            <a:ext cx="9144000" cy="6015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Internet Research Strateg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winterbkground"/>
          <p:cNvPicPr/>
          <p:nvPr/>
        </p:nvPicPr>
        <p:blipFill>
          <a:blip r:embed="rId2"/>
          <a:stretch/>
        </p:blipFill>
        <p:spPr>
          <a:xfrm>
            <a:off x="0" y="6400800"/>
            <a:ext cx="91440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609480" y="2133720"/>
            <a:ext cx="8534520" cy="30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a Web Search Engi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Full-text indexes of “the entire web”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any search engines also offer a subject direc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762120" y="1905120"/>
            <a:ext cx="7772400" cy="30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When to Use a Web Search Engi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ou want all pages tha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entio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 subject, phrase, or wo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1066680" y="1371600"/>
            <a:ext cx="8077320" cy="37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xamples of Web Search Eng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the Web, All the Time            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alltheweb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ta Vista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altavista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k Jeeves                                    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ttp://www.askjeeves.c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k Jeeves for Kids                     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www.ajkids.c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k Jeeves for Teachers              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http://www.ajkids.c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o.Com                                       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http://www.go.com/dynamic/Porta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oTo.Com                                   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http://www.goto.c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cite                                           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http://www.excit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1143000" y="228600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2676600" y="2925720"/>
            <a:ext cx="3881160" cy="15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ctivity #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ing a Web Search Eng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914400" y="1752480"/>
            <a:ext cx="7543800" cy="24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a Specialized Search Engi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Databases contai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nformation specific to one top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Databases may be full-text or site specific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3"/>
          <p:cNvSpPr/>
          <p:nvPr/>
        </p:nvSpPr>
        <p:spPr>
          <a:xfrm>
            <a:off x="533520" y="1752480"/>
            <a:ext cx="8001000" cy="20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When to Use a Specialized Search Eng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When you only want to find resources that apply to a particular sub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304920" y="1447920"/>
            <a:ext cx="8610480" cy="49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xamples of Specialized Search Engi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sk Eric                                   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ea typeface="Arial Unicode MS"/>
                <a:hlinkClick r:id="rId1"/>
              </a:rPr>
              <a:t>Ask ERI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witchboard                           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ea typeface="Arial Unicode MS"/>
                <a:hlinkClick r:id="rId2"/>
              </a:rPr>
              <a:t>http://www.switchboard.com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hareware.com                      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ea typeface="Arial Unicode MS"/>
                <a:hlinkClick r:id="rId3"/>
              </a:rPr>
              <a:t>http://shareware.cnet.com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duHound (education)           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ea typeface="Arial Unicode MS"/>
                <a:hlinkClick r:id="rId4"/>
              </a:rPr>
              <a:t>http://www.eduhound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Yahooligans (for kids)            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ea typeface="Arial Unicode MS"/>
                <a:hlinkClick r:id="rId5"/>
              </a:rPr>
              <a:t>http://www.yahooligans.c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nternet Public Library              http://ipl.sils.umich.edu/re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ducationPlanet.com               http://www.educationplane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GoGraph.com                           http://www.gograph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2674440" y="2925720"/>
            <a:ext cx="4730040" cy="15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ctivity #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ing a Specialized Search Eng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838080" y="1752480"/>
            <a:ext cx="876312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a Meta-Search Engi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t query to multiple, full-text search eng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ry results from all search engines is compiled into on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685800" y="1981080"/>
            <a:ext cx="8077320" cy="13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When to Use a Meta Search Eng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keywords that are extremely hard-to-fi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ting a large number of related sit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3"/>
          <p:cNvSpPr/>
          <p:nvPr/>
        </p:nvSpPr>
        <p:spPr>
          <a:xfrm>
            <a:off x="228600" y="213372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533520" y="1447920"/>
            <a:ext cx="8229600" cy="37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the Internet ?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tional Network of Comp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ver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z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vid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 ranges from highly informative to absolute junk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228600" y="1371600"/>
            <a:ext cx="8915400" cy="46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 of Meta-Search Eng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Dogpile    (Uses 11 different engines)  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http://www.dogpile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etacrawler: (Uses 10 major engines) 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http://www.metacrawler.com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roFusion: (Uses 9 engines)   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http://www.profusion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avvySearch: (combines web engines with other search tools) http://www.search.com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ll in One Search Page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http://www.allonesearch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Four in One Search Engine  (simultaneously searches Yahoo!, Alta Vista, Lycos &amp; Web Crawler)               http://www.all4one.com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Z-Find at The River  (searches one of  15 engines at a time)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http://info.theriver.com/TheRiver/ezfind.ht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ctivity #4</a:t>
            </a:r>
            <a:br>
              <a:rPr sz="60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ing a Meta Search Engine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2208600" y="2743200"/>
            <a:ext cx="517932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ctivity #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lecting the Appropriate Search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It’s A Race!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1523880" y="152388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net Searching: Tips and Tri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32"/>
          <p:cNvSpPr/>
          <p:nvPr/>
        </p:nvSpPr>
        <p:spPr>
          <a:xfrm>
            <a:off x="228600" y="2362320"/>
            <a:ext cx="868680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 functions   ( + ,   -  ,  “ “ ,   * 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olean Operators  (and, or, 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word functions (anchor: , domain: , host: , image; , like; ,  title; , text; , url; ,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457200" y="1523880"/>
            <a:ext cx="8077320" cy="41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Boolean Operators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“and” to find sites that contain all words entered into 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xample:  lessons and units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Use “or” to find sites that contain at least one of the listed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xample:  lessons or units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Use “not” to exclude a word or phrase from the sites your query pulls u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xample:  Cleveland not Ind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ost major engines *except* Google, Infoseek, and Yahoo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2713680" y="2925720"/>
            <a:ext cx="371628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ctivity #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ing Boolean Op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304920" y="1600200"/>
            <a:ext cx="8381880" cy="49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ey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Including (+) and Excluding (-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 before a word, indicates that you want the word included in search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xample:      +lesson pl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- before a word, indicates that you do not want the word included in search resul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xample:  Cleveland –Indians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st search engines allow you to precede a word with + to include or - to exclu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1295280" y="2438280"/>
            <a:ext cx="632484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ctivity #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ing the Including and Excluding Key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457200" y="1523880"/>
            <a:ext cx="8458200" cy="34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hrase Searching ( “   ” 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cing a phrase in quotes will locate sites that contain the phr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xample :   “math lesson plan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 search engines allow you to specify phrases by including terms in quo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1676520" y="2514600"/>
            <a:ext cx="5638680" cy="21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ctivity #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ing Key Functions to Conduct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hrase 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304920" y="1523880"/>
            <a:ext cx="8534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609480" y="1676520"/>
            <a:ext cx="853452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a Search Engine?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ftware that indexes and catalogs the Internet into a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uter generated datab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bases created by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rovide short descri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533520" y="167652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380880" y="1676520"/>
            <a:ext cx="8458200" cy="40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Wildcards ( *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o locate multiple forms of a 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xample:  learn*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taVista, HotBot, and Northern Light support use of *  as a wildcar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ahoo automatically looks for your search term as a part of wor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609480" y="2514600"/>
            <a:ext cx="7620120" cy="15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ctivity #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ing Truncations and Wildcar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228600" y="1371600"/>
            <a:ext cx="838188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Keyword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chor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Finds pages that contain the specified word or phrase in the text of a hyperlin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main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Finds pages within the specified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ost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Finds pages with specified host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mage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Finds pages with images having the specified file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ike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Finds pages similar to or related to the specified U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xt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Finds all pages containing the specified word or ph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itle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Finds pages that contain the specified word or phrase in the page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RL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Finds pages with a specific word or phrase in the U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1295280" y="2590920"/>
            <a:ext cx="6477120" cy="15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ctivity #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ing keyword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3"/>
          <p:cNvSpPr/>
          <p:nvPr/>
        </p:nvSpPr>
        <p:spPr>
          <a:xfrm>
            <a:off x="1143000" y="1752480"/>
            <a:ext cx="7696080" cy="27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 Web Sit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valuate Web sites by analyz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1600200" y="2438280"/>
            <a:ext cx="5943600" cy="21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ctivity #1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valuating Web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533520" y="1447920"/>
            <a:ext cx="807696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Ways to Conduct a 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ory search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links to follow a subject stre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 Education-&gt;Teaching-&gt;Curricul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word sear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words or phrases to identify what your looking f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“key functions” to clarify sear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  lessons or 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2438280" y="1905120"/>
            <a:ext cx="419112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ypes of Search Eng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ject Direct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Search Eng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alized Search Eng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a Search Eng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762120" y="1523880"/>
            <a:ext cx="8381880" cy="30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a Subject Directorie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base organized by sub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fer expert help upon selected topic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, founded on the basis for a need to provide a “safe” searching environ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itorial staff evaluates and selects sites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key word or subject stream search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1066680" y="1676520"/>
            <a:ext cx="76964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to use a Subject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earche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d upon rough, vague, uninformed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ting a wide range of information on a specific top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685800" y="1600200"/>
            <a:ext cx="8991720" cy="36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 of Subject Direc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bout.com     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 Unicode MS"/>
                <a:ea typeface="Arial Unicode MS"/>
                <a:hlinkClick r:id="rId1"/>
              </a:rPr>
              <a:t>http://about.com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ycos Sites by Subject      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 Unicode MS"/>
                <a:ea typeface="Arial Unicode MS"/>
                <a:hlinkClick r:id="rId2"/>
              </a:rPr>
              <a:t>http://www.lycos.com/default.a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 Open Directory Project      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 Unicode MS"/>
                <a:ea typeface="Arial Unicode MS"/>
                <a:hlinkClick r:id="rId3"/>
              </a:rPr>
              <a:t>http://dmoz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 WWW Virtual Library        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 Unicode MS"/>
                <a:ea typeface="Arial Unicode MS"/>
                <a:hlinkClick r:id="rId4"/>
              </a:rPr>
              <a:t>http://www.vlib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rgus Clearinghouse       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 Unicode MS"/>
                <a:ea typeface="Arial Unicode MS"/>
                <a:hlinkClick r:id="rId5"/>
              </a:rPr>
              <a:t>http://www.clearinghouse.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gellan Internet Guide     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 Unicode MS"/>
                <a:ea typeface="Arial Unicode MS"/>
                <a:hlinkClick r:id="rId6"/>
              </a:rPr>
              <a:t>http://magellan.excit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ahoo!                             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 Unicode MS"/>
                <a:ea typeface="Arial Unicode MS"/>
                <a:hlinkClick r:id="rId7"/>
              </a:rPr>
              <a:t>http://www.yaho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762120" y="2590920"/>
            <a:ext cx="7467480" cy="15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ctivity #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ing a Subject Directo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7T00:35:56Z</dcterms:created>
  <dc:creator>Taining Center</dc:creator>
  <dc:description/>
  <dc:language>en-US</dc:language>
  <cp:lastModifiedBy>ccallaway</cp:lastModifiedBy>
  <dcterms:modified xsi:type="dcterms:W3CDTF">2007-03-12T00:53:18Z</dcterms:modified>
  <cp:revision>46</cp:revision>
  <dc:subject/>
  <dc:title>PowerPoint Presentation</dc:title>
</cp:coreProperties>
</file>