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13D-0F6E-48B5-A463-6C1AB754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B77-889B-4BDE-BE56-3BCDF3D3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E8C-3742-47C4-8065-DED41D2D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54B-DABA-45AB-B299-AEE915DB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06A-F3EE-4B65-AFF3-C7ABCDC1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3F0-739C-414F-9243-4BBBCC13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585-4A15-4B4F-9F5F-611A1B8F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8F3-3F59-46EF-8256-D191C878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636-923F-47CB-8D20-CF9ECA21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467F-2EDE-4CBA-8AB9-CBEFC5C0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EBA-AB24-42BC-87EF-3821AFE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05B-67A7-47F2-A173-6EF90A7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60AD-9F07-4E37-A6EA-45E93C714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winterb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winterbkground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243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ltheweb.com/" TargetMode="External"/><Relationship Id="rId2" Type="http://schemas.openxmlformats.org/officeDocument/2006/relationships/hyperlink" Target="http://www.altavista.com/" TargetMode="External"/><Relationship Id="rId3" Type="http://schemas.openxmlformats.org/officeDocument/2006/relationships/hyperlink" Target="http://www.askjeeves.com/" TargetMode="External"/><Relationship Id="rId4" Type="http://schemas.openxmlformats.org/officeDocument/2006/relationships/hyperlink" Target="http://www.ajkids.com/" TargetMode="External"/><Relationship Id="rId5" Type="http://schemas.openxmlformats.org/officeDocument/2006/relationships/hyperlink" Target="http://www.ajkids.com/" TargetMode="External"/><Relationship Id="rId6" Type="http://schemas.openxmlformats.org/officeDocument/2006/relationships/hyperlink" Target="http://www.go.com/dynamic/Portal" TargetMode="External"/><Relationship Id="rId7" Type="http://schemas.openxmlformats.org/officeDocument/2006/relationships/hyperlink" Target="http://www.goto.com/" TargetMode="External"/><Relationship Id="rId8" Type="http://schemas.openxmlformats.org/officeDocument/2006/relationships/hyperlink" Target="http://www.excite.com/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ricir.syr.edu/" TargetMode="External"/><Relationship Id="rId2" Type="http://schemas.openxmlformats.org/officeDocument/2006/relationships/hyperlink" Target="http://www.switchboard.com/" TargetMode="External"/><Relationship Id="rId3" Type="http://schemas.openxmlformats.org/officeDocument/2006/relationships/hyperlink" Target="http://shareware.cnet.com/" TargetMode="External"/><Relationship Id="rId4" Type="http://schemas.openxmlformats.org/officeDocument/2006/relationships/hyperlink" Target="http://www.eduhound.com/" TargetMode="External"/><Relationship Id="rId5" Type="http://schemas.openxmlformats.org/officeDocument/2006/relationships/hyperlink" Target="http://www.yahooligans.com/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bout.com/" TargetMode="External"/><Relationship Id="rId2" Type="http://schemas.openxmlformats.org/officeDocument/2006/relationships/hyperlink" Target="http://www.lycos.com/default.asp" TargetMode="External"/><Relationship Id="rId3" Type="http://schemas.openxmlformats.org/officeDocument/2006/relationships/hyperlink" Target="http://dmoz.org/" TargetMode="External"/><Relationship Id="rId4" Type="http://schemas.openxmlformats.org/officeDocument/2006/relationships/hyperlink" Target="http://www.vlib.org/" TargetMode="External"/><Relationship Id="rId5" Type="http://schemas.openxmlformats.org/officeDocument/2006/relationships/hyperlink" Target="http://www.clearinghouse.net/" TargetMode="External"/><Relationship Id="rId6" Type="http://schemas.openxmlformats.org/officeDocument/2006/relationships/hyperlink" Target="http://magellan.excite.com/" TargetMode="External"/><Relationship Id="rId7" Type="http://schemas.openxmlformats.org/officeDocument/2006/relationships/hyperlink" Target="http://www.yahoo.com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winterb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0" y="915840"/>
            <a:ext cx="9144000" cy="60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ternet Research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winterbkground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09480" y="2133720"/>
            <a:ext cx="85345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Web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ll-text indexes of “the entire web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y search engines also offer a subject dire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905120"/>
            <a:ext cx="77724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Web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 want all pag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n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subject, phrase, or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66680" y="1371600"/>
            <a:ext cx="807732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Web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he Web, All the Time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lltheweb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a Vista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ltavist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skjeeve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Kids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Teachers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.Com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.com/dynamic/Por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To.Com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goto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ite    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430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76600" y="2925720"/>
            <a:ext cx="38811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Web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14400" y="1752480"/>
            <a:ext cx="75438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pecialized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cont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formation specific to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may be full-text or site specific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3520" y="1752480"/>
            <a:ext cx="8001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Specialized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you only want to find resources that apply to a particular su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1447920"/>
            <a:ext cx="86104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Specialized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k Eric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Ask E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witchboard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switchboard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areware.com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/>
              </a:rPr>
              <a:t>http://shareware.cne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Hound (education)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/>
              </a:rPr>
              <a:t>http://www.eduhou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ahooligans (for kids)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/>
              </a:rPr>
              <a:t>http://www.yahooligan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net Public Library              http://ipl.sils.umich.edu/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cationPlanet.com               http://www.educationplane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Graph.com                           http://www.gograp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674440" y="2925720"/>
            <a:ext cx="47300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pecialized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1752480"/>
            <a:ext cx="87631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Meta-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query to multiple, full-text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results from all search engines is compiled into on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1981080"/>
            <a:ext cx="80773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Meta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keywords that are extremely hard-to-f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large number of related sit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2286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1447920"/>
            <a:ext cx="8229600" cy="37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Internet 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Network of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ranges from highly informative to absolute jun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28600" y="1371600"/>
            <a:ext cx="891540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eta-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ogpile    (Uses 11 different engines)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dogpile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acrawler: (Uses 10 major engines)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metacrawler.com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Fusion: (Uses 9 engines)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profusion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vySearch: (combines web engines with other search tools) http://www.searc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 in One Search Page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www.allonesear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ur in One Search Engine  (simultaneously searches Yahoo!, Alta Vista, Lycos &amp; Web Crawler)               http://www.all4one.c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Z-Find at The River  (searches one of  15 engines at a time)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info.theriver.com/TheRiver/ezfind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4</a:t>
            </a:r>
            <a:br>
              <a:rPr sz="6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Meta Search Engin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08600" y="2743200"/>
            <a:ext cx="5179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ng the Appropriate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t’s A Race!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3880" y="1523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Searching: Tips and T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2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functions   ( + ,   -  ,  “ “ ,   *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 Operators  (and, or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functions (anchor: , domain: , host: , image; , like; ,  title; , text; , url; 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1523880"/>
            <a:ext cx="80773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oolean Operato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and” to find sites that contain all words entered in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and units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or” to find sites that contain at least one of the listed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or units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not” to exclude a word or phrase from the sites your query pulls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not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st major engines *except* Google, Infoseek, and Yahoo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713680" y="2925720"/>
            <a:ext cx="371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Boolean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1600200"/>
            <a:ext cx="83818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ncluding (+) and Excluding (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efore a word, indicates that you want the word included in search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    +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before a word, indicates that you do not want the word included in search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–Indians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search engines allow you to precede a word with + to include or - to ex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95280" y="2438280"/>
            <a:ext cx="63248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Including and Excluding 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1523880"/>
            <a:ext cx="84582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rase Searching ( “   ”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ing a phrase in quotes will locate sites that contain the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 :   “math lesson pla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earch engines allow you to specify phrases by including terms in qu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2514600"/>
            <a:ext cx="56386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 Functions to Conduc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ras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1523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9480" y="1676520"/>
            <a:ext cx="85345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earch Engine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that indexes and catalogs the Internet into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generate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 created b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rovide short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1676520"/>
            <a:ext cx="845820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Wildcards ( *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o locate multiple forms of a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arn*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Vista, HotBot, and Northern Light support use of *  as a wildc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hoo automatically looks for your search term as a part of w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09480" y="2514600"/>
            <a:ext cx="7620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runcations and Wild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8600" y="1371600"/>
            <a:ext cx="8381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cho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Finds pages that contain the specified word or phrase in the text of a hyper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in the specified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specified ho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ag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images having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k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similar to or related to the specified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all pages containing the specified word or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that contain the specified word or phrase in the pag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 a specific word or phrase in the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95280" y="2590920"/>
            <a:ext cx="6477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143000" y="1752480"/>
            <a:ext cx="7696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 Web Si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valuate Web sites by analyz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00200" y="2438280"/>
            <a:ext cx="59436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ng Web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1447920"/>
            <a:ext cx="807696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to Conduct a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sear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links to follow a subject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Education-&gt;Teaching-&gt;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sear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ords or phrases to identify what your looking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“key functions” to clarify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lessons or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438280" y="1905120"/>
            <a:ext cx="41911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2120" y="1523880"/>
            <a:ext cx="83818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ubject Directori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organized by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 expert help upon selected topic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, founded on the basis for a need to provide a “safe” searching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ial staff evaluates and selects sit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key word or subject stream sear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66680" y="167652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use a Subjec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ar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upon rough, vague, uninforme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wide range of information on a specific top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1600200"/>
            <a:ext cx="8991720" cy="36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Subject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ut.com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1"/>
              </a:rPr>
              <a:t>http://abou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ycos Sites by Sub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www.lycos.com/default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Open Directory Pro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3"/>
              </a:rPr>
              <a:t>http://dmoz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WWW Virtual Library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4"/>
              </a:rPr>
              <a:t>http://www.vl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gus Clearinghouse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5"/>
              </a:rPr>
              <a:t>http://www.clearinghouse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ellan Internet Guide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6"/>
              </a:rPr>
              <a:t>http://magellan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ahoo!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7"/>
              </a:rPr>
              <a:t>http://www.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2590920"/>
            <a:ext cx="74674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ubject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0:35:56Z</dcterms:created>
  <dc:creator>Taining Center</dc:creator>
  <dc:description/>
  <dc:language>en-US</dc:language>
  <cp:lastModifiedBy>ccallaway</cp:lastModifiedBy>
  <dcterms:modified xsi:type="dcterms:W3CDTF">2007-03-12T00:53:18Z</dcterms:modified>
  <cp:revision>46</cp:revision>
  <dc:subject/>
  <dc:title>PowerPoint Presentation</dc:title>
</cp:coreProperties>
</file>