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6CD-C150-4996-A4DB-74831023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A5F-6B74-4B2B-BF66-17A92EAE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059-D467-43E2-80FC-3541CDFB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961D-F73E-4DEB-9C94-3407C773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DADD-FD64-4ACA-B481-D495E998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D742-9F1E-46D4-A9E5-DE112A24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834-11CD-4839-9DBD-A79A4022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A4A5-8068-4052-BE14-BFB4D33A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547-17F5-4CB9-89B3-1DCC4F4F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6FD-CE1F-46E4-9BDA-E24303C4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FDD-7947-4660-8128-95E56FFF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BEC-F6B8-40DD-BA04-C38475A8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483C-6ADA-4452-AEDA-4331EF008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winterb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8"/>
          <p:cNvSpPr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winterbkground"/>
          <p:cNvPicPr/>
          <p:nvPr/>
        </p:nvPicPr>
        <p:blipFill>
          <a:blip r:embed="rId3"/>
          <a:stretch/>
        </p:blipFill>
        <p:spPr>
          <a:xfrm>
            <a:off x="0" y="5638680"/>
            <a:ext cx="9144000" cy="243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lltheweb.com/" TargetMode="External"/><Relationship Id="rId2" Type="http://schemas.openxmlformats.org/officeDocument/2006/relationships/hyperlink" Target="http://www.altavista.com/" TargetMode="External"/><Relationship Id="rId3" Type="http://schemas.openxmlformats.org/officeDocument/2006/relationships/hyperlink" Target="http://www.askjeeves.com/" TargetMode="External"/><Relationship Id="rId4" Type="http://schemas.openxmlformats.org/officeDocument/2006/relationships/hyperlink" Target="http://www.ajkids.com/" TargetMode="External"/><Relationship Id="rId5" Type="http://schemas.openxmlformats.org/officeDocument/2006/relationships/hyperlink" Target="http://www.ajkids.com/" TargetMode="External"/><Relationship Id="rId6" Type="http://schemas.openxmlformats.org/officeDocument/2006/relationships/hyperlink" Target="http://www.go.com/dynamic/Portal" TargetMode="External"/><Relationship Id="rId7" Type="http://schemas.openxmlformats.org/officeDocument/2006/relationships/hyperlink" Target="http://www.goto.com/" TargetMode="External"/><Relationship Id="rId8" Type="http://schemas.openxmlformats.org/officeDocument/2006/relationships/hyperlink" Target="http://www.excite.com/" TargetMode="Externa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ricir.syr.edu/" TargetMode="External"/><Relationship Id="rId2" Type="http://schemas.openxmlformats.org/officeDocument/2006/relationships/hyperlink" Target="http://www.switchboard.com/" TargetMode="External"/><Relationship Id="rId3" Type="http://schemas.openxmlformats.org/officeDocument/2006/relationships/hyperlink" Target="http://shareware.cnet.com/" TargetMode="External"/><Relationship Id="rId4" Type="http://schemas.openxmlformats.org/officeDocument/2006/relationships/hyperlink" Target="http://www.eduhound.com/" TargetMode="External"/><Relationship Id="rId5" Type="http://schemas.openxmlformats.org/officeDocument/2006/relationships/hyperlink" Target="http://www.yahooligans.com/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bout.com/" TargetMode="External"/><Relationship Id="rId2" Type="http://schemas.openxmlformats.org/officeDocument/2006/relationships/hyperlink" Target="http://www.lycos.com/default.asp" TargetMode="External"/><Relationship Id="rId3" Type="http://schemas.openxmlformats.org/officeDocument/2006/relationships/hyperlink" Target="http://dmoz.org/" TargetMode="External"/><Relationship Id="rId4" Type="http://schemas.openxmlformats.org/officeDocument/2006/relationships/hyperlink" Target="http://www.vlib.org/" TargetMode="External"/><Relationship Id="rId5" Type="http://schemas.openxmlformats.org/officeDocument/2006/relationships/hyperlink" Target="http://www.clearinghouse.net/" TargetMode="External"/><Relationship Id="rId6" Type="http://schemas.openxmlformats.org/officeDocument/2006/relationships/hyperlink" Target="http://magellan.excite.com/" TargetMode="External"/><Relationship Id="rId7" Type="http://schemas.openxmlformats.org/officeDocument/2006/relationships/hyperlink" Target="http://www.yahoo.com/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winterb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0" y="915840"/>
            <a:ext cx="9144000" cy="601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ternet Research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winterbkground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609480" y="2133720"/>
            <a:ext cx="853452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Web Search Eng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ull-text indexes of “the entire web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ny search engines also offer a subject direc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62120" y="1905120"/>
            <a:ext cx="77724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to Use a Web Search Eng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u want all pages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n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subject, phrase, or w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066680" y="1371600"/>
            <a:ext cx="8077320" cy="37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s of Web Search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the Web, All the Time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alltheweb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ta Vista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altavist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 Jeeves 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askjeeve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 Jeeves for Kids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ajkid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 Jeeves for Teachers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ajkid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.Com    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www.go.com/dynamic/Port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To.Com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ttp://www.goto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ite        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ttp://www.exci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143000" y="2286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676600" y="2925720"/>
            <a:ext cx="388116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Web Search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14400" y="1752480"/>
            <a:ext cx="7543800" cy="24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Specialized Search Eng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bases conta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formation specific to one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bases may be full-text or site specific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533520" y="1752480"/>
            <a:ext cx="800100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to Use a Specialized Search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you only want to find resources that apply to a particular su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04920" y="1447920"/>
            <a:ext cx="861048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s of Specialized Search Eng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sk Eric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/>
              </a:rPr>
              <a:t>Ask ER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witchboard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2"/>
              </a:rPr>
              <a:t>http://www.switchboard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hareware.com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3"/>
              </a:rPr>
              <a:t>http://shareware.cnet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duHound (education)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4"/>
              </a:rPr>
              <a:t>http://www.eduhoun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ahooligans (for kids)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5"/>
              </a:rPr>
              <a:t>http://www.yahooligan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ernet Public Library              http://ipl.sils.umich.edu/re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ducationPlanet.com               http://www.educationplane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oGraph.com                           http://www.gograph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674440" y="2925720"/>
            <a:ext cx="473004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Specialized Search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38080" y="1752480"/>
            <a:ext cx="87631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Meta-Search Eng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query to multiple, full-text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y results from all search engines is compiled into on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85800" y="1981080"/>
            <a:ext cx="807732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to Use a Meta Search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keywords that are extremely hard-to-fi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ng a large number of related sit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2286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33520" y="1447920"/>
            <a:ext cx="8229600" cy="37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Internet 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Network of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ranges from highly informative to absolute junk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28600" y="1371600"/>
            <a:ext cx="8915400" cy="46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Meta-Search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ogpile    (Uses 11 different engines)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http://www.dogpile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tacrawler: (Uses 10 major engines)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http://www.metacrawler.com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Fusion: (Uses 9 engines)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http://www.profusion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vvySearch: (combines web engines with other search tools) http://www.search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l in One Search Page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ttp://www.allonesearch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ur in One Search Engine  (simultaneously searches Yahoo!, Alta Vista, Lycos &amp; Web Crawler)               http://www.all4one.co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Z-Find at The River  (searches one of  15 engines at a time)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ttp://info.theriver.com/TheRiver/ezfind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4</a:t>
            </a:r>
            <a:br>
              <a:rPr sz="6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Meta Search Engine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208600" y="2743200"/>
            <a:ext cx="5179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ing the Appropriate Search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t’s A Race!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3880" y="1523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 Searching: Tips and Tr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2"/>
          <p:cNvSpPr/>
          <p:nvPr/>
        </p:nvSpPr>
        <p:spPr>
          <a:xfrm>
            <a:off x="228600" y="2362320"/>
            <a:ext cx="8686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functions   ( + ,   -  ,  “ “ ,   *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ean Operators  (and, or,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 functions (anchor: , domain: , host: , image; , like; ,  title; , text; , url; ,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57200" y="1523880"/>
            <a:ext cx="807732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oolean Operator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“and” to find sites that contain all words entered into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lessons and units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se “or” to find sites that contain at least one of the listed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lessons or units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se “not” to exclude a word or phrase from the sites your query pulls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Cleveland not In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st major engines *except* Google, Infoseek, and Yahoo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713680" y="2925720"/>
            <a:ext cx="3716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Boolean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04920" y="1600200"/>
            <a:ext cx="838188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ncluding (+) and Excluding (-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before a word, indicates that you want the word included in search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    +less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before a word, indicates that you do not want the word included in search resul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Cleveland –Indians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search engines allow you to precede a word with + to include or - to exclu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295280" y="2438280"/>
            <a:ext cx="63248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the Including and Excluding Key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57200" y="1523880"/>
            <a:ext cx="845820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rase Searching ( “   ”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ing a phrase in quotes will locate sites that contain the ph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 :   “math lesson pla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search engines allow you to specify phrases by including terms in quo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676520" y="2514600"/>
            <a:ext cx="56386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Key Functions to Conduct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rase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04920" y="1523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09480" y="1676520"/>
            <a:ext cx="853452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Search Engine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that indexes and catalogs the Internet into a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generated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s created by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rovide short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533520" y="16765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80880" y="1676520"/>
            <a:ext cx="8458200" cy="40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Wildcards ( *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o locate multiple forms of a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learn*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aVista, HotBot, and Northern Light support use of *  as a wildca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hoo automatically looks for your search term as a part of wo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09480" y="2514600"/>
            <a:ext cx="762012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Truncations and Wildc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28600" y="1371600"/>
            <a:ext cx="83818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eywo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chor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Finds pages that contain the specified word or phrase in the text of a hyper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Finds pages within the specified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st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with specified ho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ag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with images having the specified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k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similar to or related to the specified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xt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all pages containing the specified word or ph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that contain the specified word or phrase in the pag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RL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Finds pages with a specific word or phrase in the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95280" y="2590920"/>
            <a:ext cx="647712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keywo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1143000" y="1752480"/>
            <a:ext cx="7696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 Web Sit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valuate Web sites by analyz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600200" y="2438280"/>
            <a:ext cx="594360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aluating Web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33520" y="1447920"/>
            <a:ext cx="807696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ays to Conduct a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searc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links to follow a subject str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 Education-&gt;Teaching-&gt;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 sear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words or phrases to identify what your looking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“key functions” to clarify 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lessons or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438280" y="1905120"/>
            <a:ext cx="419112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 of Search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 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ed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62120" y="1523880"/>
            <a:ext cx="83818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Subject Directori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organized by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 expert help upon selected topic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, founded on the basis for a need to provide a “safe” searching environ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ial staff evaluates and selects site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key word or subject stream search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066680" y="1676520"/>
            <a:ext cx="7696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o use a Subject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arch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upon rough, vague, uninformed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ng a wide range of information on a specific top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85800" y="1600200"/>
            <a:ext cx="8991720" cy="36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Subject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out.com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1"/>
              </a:rPr>
              <a:t>http://about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ycos Sites by Subject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2"/>
              </a:rPr>
              <a:t>http://www.lycos.com/default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Open Directory Project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3"/>
              </a:rPr>
              <a:t>http://dmoz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WWW Virtual Library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4"/>
              </a:rPr>
              <a:t>http://www.vlib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gus Clearinghouse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5"/>
              </a:rPr>
              <a:t>http://www.clearinghouse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gellan Internet Guide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6"/>
              </a:rPr>
              <a:t>http://magellan.exci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ahoo!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7"/>
              </a:rPr>
              <a:t>http://www.ya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62120" y="2590920"/>
            <a:ext cx="746748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Subject Direc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00:35:56Z</dcterms:created>
  <dc:creator>Taining Center</dc:creator>
  <dc:description/>
  <dc:language>en-US</dc:language>
  <cp:lastModifiedBy>ccallaway</cp:lastModifiedBy>
  <dcterms:modified xsi:type="dcterms:W3CDTF">2007-03-12T00:53:18Z</dcterms:modified>
  <cp:revision>46</cp:revision>
  <dc:subject/>
  <dc:title>PowerPoint Presentation</dc:title>
</cp:coreProperties>
</file>